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CF1-7584-48FE-883F-3D162D98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8C1-9603-4FFE-8165-F5D7E9F7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E9D-2FE9-4160-85C9-3410856B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123-80C7-409F-BBA7-06359EB2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CA0-78DE-4F67-AFC5-DEF856FB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29E-8E71-4CFD-A8A0-D6407414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F5A-4269-43C4-A99E-027495F0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3D1-1240-494E-948B-C3317F0C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793-4140-44DE-8E2D-E599F131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3DB-A45B-4F53-9ABE-8107891A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026-5AF3-452A-82AA-D2EFCF97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F65-A15E-4DEB-8785-021EFCEA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B1E6F-A456-40E6-A9F9-CEE72952E7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3B50E-96C2-4245-86E1-363389EBB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at type of reaction is this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en-US" sz="5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 CaO +CO</a:t>
            </a:r>
            <a:r>
              <a:rPr b="0" lang="en-US" sz="5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ard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alibri"/>
              </a:rPr>
              <a:t>9.3 pH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H Scale measures the concentration of hydrogen ions, [H+]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cids have a pH between: 0 and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ases have a pH between: 7 and 1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 natural substance has a pH of 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0" t="0" r="0" b="37301"/>
          <a:stretch/>
        </p:blipFill>
        <p:spPr>
          <a:xfrm>
            <a:off x="136440" y="2476440"/>
            <a:ext cx="88711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13:06Z</dcterms:created>
  <dc:creator>Caroline Roth</dc:creator>
  <dc:description/>
  <dc:language>en-US</dc:language>
  <cp:lastModifiedBy>Caroline Roth</cp:lastModifiedBy>
  <dcterms:modified xsi:type="dcterms:W3CDTF">2011-04-10T19:19:00Z</dcterms:modified>
  <cp:revision>1</cp:revision>
  <dc:subject/>
  <dc:title>Do Now</dc:title>
</cp:coreProperties>
</file>